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245-78DE-410F-9707-8B41A980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BBEE-5F43-41D2-BA7E-D0839B4A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AAD-CC11-4AB3-AFDD-A1183936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6746-83DE-4790-AFB9-43AE94B8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B9DF-C356-4098-9271-0B9D30AE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B0EE-3FDA-4F96-82AC-402FD77A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124-7531-42AB-83CD-A65E8D60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87E-3CDD-4360-A1CA-356BA4DB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DC91-E468-4CDD-826A-4DD69079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994-1103-4A4A-BB78-1BD3CD29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E28D-1A29-4DE5-91F5-47FB1384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78C2-A682-4578-B2F7-F18FA61F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E6BED-26FF-4812-885F-94C7E8D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B9407-895A-4965-A405-156CC40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5EDBF-A8EF-4A1A-AE0D-9B366BC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A6D91-2B89-45A7-ACA6-2E30774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43294-30CC-40D4-80B9-C1623A7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4EF36-0459-469D-9174-84FE887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C3819-2345-4F6D-92C4-B27C6599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9D1AA-EC09-4FF8-9F56-28AB0A5D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77917-E5D5-4C4A-9301-8249AA41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8E470-5358-459D-AD06-356103A5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BBE5-2BA8-43E5-8BEB-A33B20AC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82A89-3BCC-4120-9EA0-254F0B47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4E551-73D3-4851-8131-0B4E162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83DF1-3F94-487D-BF16-98A3C989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FB845-8E3E-4ACB-AA7E-529AF0D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3CCC1-3579-49F7-8BE6-0A8A78D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8174E-C2D1-44F4-BFBB-245A570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E87FE-FA30-4477-8B27-1D4CCF9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190BF-6E57-424F-9269-5B8B252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B60D4-09F9-4031-BE60-77C72BF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D66F7-00EB-484C-8C8F-EC86E704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C5DE-54CF-41FF-BE1B-03F67C02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DE92E-D800-48B9-AE57-022A9B2B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3B89AE-62E1-4A6D-85DF-A31D2502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4385D4-E1CD-4BA4-A962-1F20262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B750FC-CC31-451A-9E6A-6FEDDBAF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C4A28D-428C-4D46-9FEA-B38182A4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D08CA6-586A-4FAB-B4B8-295D6F3F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FDFF01-4482-4C21-9C04-A6932D8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68BC80-2DD4-4D0F-84DD-606A2D9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6B1244-9289-469D-B10E-E508555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12ED20-E4C6-4DF4-A30E-5FEDEA9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D3AC-B130-4CF2-82EF-B6722B25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8994C9-4B08-4B39-AF3A-480D8CF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F64E93-B388-434A-B239-60772B51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B64562-893D-46A0-B188-ACBB8BAC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AD136-9AEE-49D8-82C0-76BBD5C4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E5054-9FFE-4A77-80F8-1F6BE783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BC789-8204-44DA-AF03-1E03CEF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65491-4358-458D-85AE-E1039A0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D9A30-F987-42CE-B03B-0CF82CD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44C8B-9CA6-4A2B-A08B-9990A35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217CC-EDEA-43FA-A306-8056B45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76CF-CE44-4F3B-A9F1-11D3A35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7AAFB-B2A1-4871-BF46-0C3FD11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52768-4230-4F23-BDA5-ADE4603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DA06E-8BFB-41A3-A1E8-FE3B357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05C6D-924D-4527-9E75-2A5BE29A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A030B-2CD5-4FAF-B98D-8245EBCB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BF08DB-D15B-418D-9945-A4C2665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9E1FD9-FDF0-4C9B-8E6B-B3EA7061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FEABCD-1E12-4BFC-A782-EACD1CF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36BB81-AD8D-4E44-ACD0-CC428BBC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E379BE-5F59-46AB-AA18-331A384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DAE-784C-4E3A-AFFC-6EA6CF6F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F00D95-CB64-4417-A514-1BE268D2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135348-DD26-4244-81E2-58A915C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1EBFA6-41B9-41D7-9642-B6F9D90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6D3EF9-52AB-4F1A-9099-4321722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C26146-BB1E-47F8-B3D8-B013554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E89F82-BFE7-4CC7-B28A-8D02DF7F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C9C47F-8EDA-4D56-ABC5-5F4B928B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73B5F2-1E53-42E5-88C9-2E531F77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DA538C-EC30-439B-89A3-0240BD4C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9FBD25-9250-4F0C-93C4-A492D4C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D8D-6B8A-45E9-B3B2-41D24E2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B1B0BD-20A6-42A4-8848-70E2509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741453-30EF-43F8-9A80-F2E455F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BD5233-9016-4A47-9F43-FBBFA5C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DDFCB5-02D7-4F4C-9BB4-8D653D1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4E38AF-51E1-4BA8-8763-A2F88F5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57A4CD-EBC6-41C5-8241-7D56196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CE42E4-E94B-4B64-966C-5773FFB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5234D6-2F4B-40DE-B1E4-11C52750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0E9C01-CDB6-4AF5-BF86-169D8B8C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6FB370-1A70-45F8-9416-4CCF2943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6CEE-1C38-4CBA-B88E-5B57394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2B4695-5F73-4772-990E-5157FFD9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B24B57-853F-4A8B-822C-7F843E2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2A87C2-7207-4EED-B42E-EEB2C34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538F5-268B-458A-9F90-C4C4EAB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92A8BB-A502-4644-B04C-C521349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ED1F8A-387B-4511-A292-1D6106E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BB343C-C962-49D6-BDF5-C5AA3F6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B7D966-17E6-4C78-9B52-E5742E2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FA9595-F224-46F0-9924-075FD689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DC82B4-AA50-4623-86A7-DB46F978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DE2-381E-4EE4-B09B-3394F25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79D102-5CB2-4A87-BDA4-AEEAB3AB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61DB63-8265-49BC-9308-583E39CB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EC1D9C-1A77-42CF-8ACF-58E614B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2597DC-1959-4651-A43E-A4F1BBEF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01EA25-D937-437C-865C-E7AD6F6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240D9E-9E98-4D73-B2DD-7CA280B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F3A958-86DA-44F0-B699-264645CC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772366-BEEE-455C-BAD8-651D3BF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5B03C0-BA76-4ACD-87D3-FB2619B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F4E860-3D2E-44D1-9E6C-5AAF49F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014E-B8B3-4F01-A707-E80AB6E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3ED15B-B141-4821-B252-6FE4318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E07D0F-4475-4393-A04F-A09CACF2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7A1097-09FF-48F5-A3F2-58A1E88D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216079-E59D-4AA2-8340-D529E0B6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D177A5-F6EA-4666-A3EC-AEB0B3B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5A49EB-E2C5-4A35-9242-F5D79D53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E7FD42-1A6C-466B-9C67-4B40A8E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6ED272-46F9-49EA-A981-94F4DC6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F87CE9-284B-4370-898A-390A346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6E01B4-4810-4DD6-8FD8-EFBDD94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E812-CC7A-4706-B83A-01E5ACC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A51-459D-4F75-9D04-6FBA065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654BD1-665D-4E06-AA66-B551952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6FA5C9-D66F-4DB3-A98D-79316F5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21A2AA-F8D4-422F-9CCB-9F1F3E6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6599A9-F3EF-458E-AC9F-2D99164F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5E28A3-F97C-4492-A6D0-4999F52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F31F48-F30D-4BFF-A6FC-08C0A27D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4B3258-3943-4446-830F-6F1C27A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FC7E3A-1764-4322-BDE2-B527D63F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524036-F669-41E4-A115-59E5C5B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0D131D-2B2E-49E1-ABE7-4AAA8A7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598-6B24-45AC-BDA6-0613D8D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37DECE-01F9-4DD9-84FF-B0D522F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A11E4A-4D6B-4EFD-AC8E-41D5F647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8E0D1A-0644-458D-9AB2-E11393F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BAD03A-CB4C-4DAF-AD47-D853AA7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64EE73-9110-4554-89C3-F9899864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5160E1-3783-4434-BC02-28734F54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7A1D7C-D034-4799-BB27-0DD6709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D0C078-4FC0-4D81-9B05-2A57D66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5247DC-120D-42EE-952C-5F13ED8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AC83C6-FB8C-4FAB-8A02-4CCBF2D3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5B4-7DD6-4B67-9BDB-7CC95EB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BD3AE9-5A2B-4EF3-B5E5-0DB96A7C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61FE47-5C6A-49BA-9605-FBDD291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4E9830-01D1-4BF0-A9E7-A46748B9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4E60AD-BBFE-4CCE-8923-6AC8806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07C1A8-44BA-4377-8E41-4F6E67C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3339A9-C958-4D66-9312-1A8D304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516220-4EF5-4A62-A795-9A93292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C9D2B5-F315-4FB1-8749-620B0D41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2FFEA1-07F6-4387-B990-C6E7B052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496933-3DEC-4CE1-8A8F-811BBEBB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F3DD-4950-41F7-8D3E-435B58D1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B59C70-007E-4215-B2CA-6A5545C3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2F6C8F-4975-4441-81E9-2AE852E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8AE0A4-B81E-4003-A9D0-886F37C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6EFA7E-9C56-4121-B6C9-B2DD7A6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FC5A42-9959-42A6-BB3C-4BAD3BA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CA386C-E021-4086-869B-3871116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798C7C-8160-4A05-9558-ED51372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7FF611-1B47-4EA9-A5AF-FCAE421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5EF4B0-5AF0-4D5D-ADCA-CEC57F6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58E0A5-75C7-4187-8EDA-CDA0ABF5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31D-2ED4-4584-9574-F1307B65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BF3A9E-0104-47D8-9C7E-63277551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C58BFE-4D90-4F74-9075-8BC2A686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6A5D01-125D-4F8F-9FA8-75201539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89AFED-9922-423A-8EED-35C5192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990839-2676-487A-89E7-EE092BB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F9479D-ACBD-41D5-A899-341F4289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1E144B-B43C-4C81-90BF-45A673D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AEA2D1-61FC-48D3-88DD-8403E9E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5E5D8B-8EB8-4946-9AD7-EB7D067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8ABC5C-980F-4CA0-A7BB-7A591A2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D4D29-039D-47B0-8624-BB3C78B78AC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DE17D1-F9D8-4339-BEA8-6E325AF6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41D558-779F-4A4C-9401-8632523D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FC2098-FCC3-46B0-B470-674E008D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52E9E1-C877-42AF-A184-18B32C5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75456F-82C5-47E1-A965-C719ABC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6887F0-D4EA-4B24-9D0C-C79B3E67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3B80DC1-EE73-4907-9CE2-E070929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2C27AD-E3F9-463A-8A2C-21C1ED57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DD56C8-C7D5-4B41-9FC1-3079E3F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95ACEC-382C-41A2-B5B2-24F5138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5AA80-4ED4-400D-B44A-23803BAAAEC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23B714-60CE-4673-B507-A2B16314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D4C345B-31B7-4A91-A66E-C6FE56D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3A8805-75C5-4EC9-9990-B594AB22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B2F2F85-218A-4F81-9267-2DCA640F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CD8075-2166-4AC9-835A-D812B6B3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F968EC-3292-47B6-B44C-FFFCF7E4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5D6F9F-44E8-49E8-A792-1E92F3D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E9D4FB-5C98-44A1-8092-A299652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3BCA1F-147D-4BF2-9AA7-7AE4FBE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6807D2-B425-4216-A137-5FBCC362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C3119-A9DA-47CF-A423-10E0E11E463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8E944B-EC3F-4C66-B7A9-58950985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B89671-27BE-424C-AC59-FE9B83F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D334A2-ACD1-424B-8571-21A241D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55907F-0646-4E8D-B9F8-1809105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F4BC2F-73A1-48EB-912C-D94E06B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6F4EBB-CD86-4671-88E8-218CF026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5F7C4F-6519-4D36-8BB6-1C059DA4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60CB12-06C7-483D-8E7E-105E409C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5AA60C-E5F4-490E-AA5B-F9AAAD6F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EB50B2-E734-4AEE-9BEE-07C865D7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20539-10F1-46BE-8E50-A38D16B246B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75AB89-ED67-49D2-8B95-59DBC0C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150A0B-5D4A-4DAE-BBD0-C8AB81A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CB0B99-A4AB-4DD0-A6FA-0B084383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351B51-3DA7-4537-97B3-52CC709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AF2962-9924-4F85-8EBC-6299584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391077-EE8E-44FB-A03C-107E690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7C4FCD-66B6-4DB9-9117-C31AD89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3CD18D-48B7-4419-AF46-6A1F6C9D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84F0A1C-8369-4E84-96EC-67C268E6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A7495-E0B5-45B9-A483-ECF580D382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88D86-3DCC-4DC8-820A-A8847E9EA9C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4A9C8F-0C13-40D1-AA3B-F390B53B340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4D4BE-945B-4536-A8DC-12651895265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4FDCCD-533B-4EAF-A9DC-5A000F9FC4F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EA0FB-830C-4EC0-A48C-AFCEC9EA888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5EC07C-9457-4D03-98D3-9E7D7622A05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600A2-7E17-48C1-8D0E-43C264BF117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50EB6F-C553-4205-84EF-BD17E1F1FB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BFBE2-CDD3-4B46-B0DD-2CB666751FF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A4FE8F-C69A-476A-9AF8-DEE085FB068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CF45A4-0633-45B8-A759-0840C574B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4C4B-4153-4287-951B-EA3C318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441103-C824-4330-9940-6C9D49864A4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CAF0DF-6CDE-461F-B2B3-4512D0D0CF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28959-D956-41FF-93FD-9748D08F99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84D45-D08A-41C9-88C1-3112152847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DD3C3-9F22-4876-8937-7CF1A59AA9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1665B-8C1A-4D4E-881D-EE450DB521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46145-0423-4B6A-8555-463CDADEB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A72D1-188C-4508-9DBA-A2349F134F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1F7EF-9A42-4FE6-ACC6-FF8605F1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A2C64-35CA-4C05-9A1F-C1A80B68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4B4BB-95E9-44ED-9C9A-10FCFF0B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8589-A246-488E-A827-342A1BF4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63173-7CBB-4A58-B0DB-D92AA61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5B064-0A66-49CE-8FEF-50F11A4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C5CD2-87BF-47CD-A2F7-F7ADC50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1B288-E5D0-4EA6-BB6A-BCEFA6A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9F6E9-8246-4930-8CF9-80153B1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5D3F4-69F0-4C99-8483-365A635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AAA75-B135-4B1A-BEB9-9054AD1F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8F7D6-217D-43D3-936D-0F5B7654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4C65E-F7E2-4824-9769-E498CCB7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974C8-8735-4158-89F3-E9B4DD75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FC96-99AA-4809-88F6-70D92853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406DF-1EFA-4728-8DAD-28DA203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F44E6-22C2-4333-B292-CD9D809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EE5DB-57DF-4854-AED5-D4189AF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31997A-2FA1-4B01-AA59-9E37B8D6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C2D6E-E129-4946-8572-FC5FB15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FB372-102C-4E29-8D44-2DBB115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E0A64B-42DA-4E5E-B260-E0D39A1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4C7E9-36AE-4A2C-8675-913ADA6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520E8-921A-4881-A586-071AAEE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4E89C-D6E5-4FBA-85D6-8C5192EE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63F2-7046-4816-A4E9-5D75CA5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ED13E-49E8-42F9-AC4A-ACAC1C5B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53F43-4063-4B00-830B-EBB4CAC5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65FE8-B95C-44BA-8316-B04F50E8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55678-89C3-4A90-AFC2-7B1EE82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51FAF-5AD4-45B0-A979-9E81FB7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EAAB2-C9DC-423E-8C8A-E594073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49671-9A88-4D83-8BC1-76C48620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E87C0-1C36-438D-92B7-7406DDE3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115EB1-D01A-44FB-9C84-0CFCE90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DD345C-ABEF-42C7-955C-885124D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2B6C-7AFF-403A-A7A0-E918C67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9AB47-4EE0-415E-B241-F055AD9B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354B3-336C-4675-8B66-6BC68703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A26D9-4465-4AC0-8D56-96703839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25E03-F0CF-434E-9AF4-2B340596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E17DB-CC8D-4DEB-AFB4-494D11D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8F08A-FFC5-49C3-A200-C5A2B44A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D6CEA-0C17-437C-867D-6500D0E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FEFF52-5AE6-49EC-B9FA-035282F2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541BC-CF8F-47C2-9427-C2F1DE1F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C0EEF-F92E-4B23-BFC9-28577B1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B727-AAE0-4943-9325-F337CC3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F6065-CEB1-415E-8B43-A08AD1B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73898-EB75-44D3-8349-8A76E15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69511-CBC6-4CFE-A030-78C2F00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568B6D-28FC-46CC-9537-38B0AA5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70A55B-A649-4E3F-9B5A-3F585E30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ADE655-C74A-44FB-94E6-B93F33D5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54652-5BA9-45C9-9D3D-6CF2CB0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59101-8146-4070-B8FA-C12168F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867B9-2255-40AB-9831-3B77CF8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03266-B32B-49B9-AB2A-FAED17D3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FB65-1ED3-467B-8C84-A605D06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40E46D-7737-4EAC-87E3-80D4FB5C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C8463D-CB58-4765-A501-3D9B4CC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79B1B-0E14-4856-AB9A-E0580AE7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19EEB9-055F-4CC6-ACCE-667F387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A30C0E-04BD-490E-B7E4-58963CD1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E06E3-0040-4D8C-8EC2-100B70B6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23B6A-283E-49D0-B3E2-799F2457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8F711-EEC1-4CF7-B7A0-60207469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B8482-96D8-4EDA-9DBC-27CB9D5E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83706-B599-4395-B692-ACAA2F1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FA6BAD16-A865-4191-9CEF-81238C991CD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BA6BF07C-C765-4A4F-BFC8-43FEB22E12E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619527BF-ABFF-4F13-AC68-972C1DBB2CE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2F72F8DD-96E6-4B4E-967B-24A2C818D94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92B962E8-8D27-43A9-AA03-6705BDE7E65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9A9A700B-AB59-4191-9900-6D51D1217C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D74FF317-CF62-4F98-A6D0-B4270381C5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4F861260-A6C1-40C8-9F29-14C07F1FB45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FA09BC2E-53FC-4CCA-BF46-DE736FC0CE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6EF5B72F-FC4A-4791-9462-C4418E84F72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8C303A63-2567-4D57-9611-8D6F40F651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7C9164EF-F13E-4479-A84E-8A00402742C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BC51E8EC-3875-47B0-ADF2-3D1506EA9D4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42D915C2-405A-4D80-8C43-2541904D1DB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84AF5003-C87A-4F8A-9BFA-11B780C8D26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92E661C5-9E16-41F4-AA2A-A9FE38791D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CCFDFF34-24D6-4DC3-8649-27088DC705D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953E016C-1FD8-47E4-90C9-04291248DCB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04952BA4-201A-44AF-9CB1-60DDF867544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80EDC1EF-915E-4D67-B3CE-C849D0B1F80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313CA338-AF31-4C65-AAAF-944F76C2996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60DF883C-80CC-4D18-9C81-FB66EB862F8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45F3A28B-77CF-4DB6-8002-EE8B42CDC38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678C09EB-85F5-4161-9763-0EF768545BB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54C61AA-B28A-412D-9F93-72EF3EE86B1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-</a:t>
            </a:r>
            <a:fld id="{AE661080-CD25-4BC1-B7F2-3886E4425026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On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Understanding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Versus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712EC006-236A-4C89-A250-946A4489DBA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elling goods and services on the retail level with anyone, anywhere,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Greater efficiency and effective exchange of goods and ser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xchange based upon </a:t>
            </a: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transaction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block of information exchange between the merchant and its customers via the corporate Web s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necting critical business systems and constituencies directly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Web 2.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56FE5055-113F-485D-B265-FDE950F9E2D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99072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web 2.0 and collabor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collaboration becomes a mutual touch point for all the stakeholder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aggregating information about people, products and servic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reduces time spent searching resources for information, eliminates redundant dat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increased relevance, delivering key information to places where it can be used effectiv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gital Convergence - digital devices communicating with one an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ytime, anywhere, anyone - e-commerce is available to anyone (24/7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mand for customized products and services - mass customization puts pressure on firms to handle customized requests on a mass-market sca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usiness-to-Government (B2G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80D16666-8D16-4355-AA95-85034058C8F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government market is strikingly similar to B2B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uge potential for savings in $1.8 trillion federal and $1 trillion state and local expendi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nging the status quo in government is not so eas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anges to employee tasks and job restructuring often create resistanc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ax savings potential is not easily recogniz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itting to technology means constant need for upgrades and additional cost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Business Mod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2861B2A2-0BD1-476C-BFA2-7678718FD9D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218960" y="1599840"/>
            <a:ext cx="43606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efro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-and-Morta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ilt to Order Mercha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Provid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scription-base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pai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06560" y="1599840"/>
            <a:ext cx="35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k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ertis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rtal Site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e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Mall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Communit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mediar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ED6E3F9C-188C-4B1D-80ED-2A5165AD07C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commerce (EC) is the ability to deliver products, services, information, or payments via networks such as the Internet and the World Wide Web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business connects critical business systems directly to key constitu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ise of specialized Web sites and Web logs (blogs) generated opportunities to read and write on a vast array of top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ral drivers promote EC: digital converge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antages of E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volu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technology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Internet an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1F492025-F71A-4DBF-98B0-9610EA204CE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y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73633BC-C724-46F9-ACB6-079EABC898B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istory of ecommerce dates back to the year (1991) when the internet was made available for commercial purpos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 sites were allowed to use internet for business transactio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o business electronically from virtually anywhere in the world that has a computer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 2004 alone, e-commerce generated well over $100 billion in retail business and over $1.5 trillion business-to-business traffic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t first, the term ecommerce meant the process of execution of commercial transactions electronicall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leading technologies such as Electronic Data Interchange (EDI) and Electronic Funds Transfer (EFT) were us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26314308-EE4A-4A0E-A310-C9C9989E796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at impacted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rong usage of credit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ecurity protocol such as HTT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Dot Com e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56176A95-8CEC-4AE5-84F5-804932C0C73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"brick and mortar" retailers recognized the advantages of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rst generation e-commerce porta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 spite of ‘dotcom’ burst, the ecommerce sales continued to grow in the next few yea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s prefer e-commerce over tele ord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day’s Internet promotes individual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: 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Amazon.com: synonymous with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Case: Dell: An evolutionary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D8A33415-AFBC-4F66-9A6D-7E70360DBD4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28D94BD9-B9F4-4880-9048-B048941A157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consumer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C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government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ll the forms of e-commerce include following steps. i) account acquisition, ii) product discovery through search and browse, iii) price negotiation, iv) payment, and v) product deliver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n some cases, dispute resolution and customer services may also exis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times in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68FEB142-037A-4874-9234-C2F225C0EE9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Electronic Data Interchange (EDI) and Electronic Funds Transfer (EFT)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Automated Teller Machines (ATMs)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growth and acceptance of credit cards, and telephone banking became part of e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roadband connections to homes is fulfilling the ultimate mission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mail is now the very connectivity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ar code scanning is on the way out, replaced by sophisticated biometric technology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downloading of music, video, and other digital products via the Web is increas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g businesses, as well as small- and medium-sized firms, can afford to develop a Web presence quickly, reliably, and at an affordable cost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commerce has gone international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87EE8B2D-8A4B-4AC6-B74C-6F6A396D49B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7T18:36:19Z</dcterms:modified>
  <cp:revision>26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